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4AEB5-210B-48E7-B5D5-4650548ED4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579DFB-D9AB-444D-A0F6-77CC3B0784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AB0B4F-5D6D-47A7-9C2E-F104DB7E8A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34EC8-AF2B-4D3E-BF02-B4393EF3C0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0BFDF6-24AC-4105-A76E-E25ABAF39B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186A3E-CCBE-4B0E-B3D6-A269A43683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EAA568-34C3-47F3-AED5-848B0B6572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63A2B8-69CB-4E0D-998C-861A79265C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56251E-6E85-4784-ACB8-65E0E8EDA6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7ED411-0099-43CB-911A-C2BE71D033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5660F7-0AFB-4A55-B52F-6188F8363B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D62FF6-6554-4588-AAA0-A3C4F4AB0D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AF05A5-1340-48FA-8545-CCB3950D54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31C079-6D6D-43A5-94CA-368BFE0F1B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7D9B47-2697-4869-9A87-0CAA8079D4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2F79A5-8E9F-4B36-B61D-0FA2E5FB25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AF845B-451E-4451-9A6D-74A22B6AC7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935A30-1B86-4A98-ABBF-6A52E7F53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426453-838D-4F66-B22B-3CCE3201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3C0F84-2741-434E-9253-15116D2FBA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7F1-A7E8-4DFD-9C0A-CB2F7BDA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DBD-15CB-4A92-BE1B-B567EAE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6D8-0A52-43D2-AB95-C8975DBA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172-0F67-431F-AB52-E27BD9F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401-E5A6-46AE-B521-B2BE369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F51-4797-46CB-825E-1EF8AADF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4B9-812F-4520-8394-75FB8DFB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4FC-3CE8-4262-9338-467FAFE2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8578-C88E-4F52-98D3-4AA52DFA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1D68-084E-406A-81E7-8A822569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1F7-CC68-4B9B-8A64-E6116FC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341-9F89-412D-98F0-8CF9498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1358-C92C-454A-B83D-489ADFD5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C989-68B0-48FC-906F-A3C7CCD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D982-63A1-4DD0-8FA5-92E17E9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C027-C9E0-4253-B8C2-AE7ED4A6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0CE-70FD-4B45-AE9E-C741DA5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1AA-7A7D-4AD4-A9CB-156097F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C6B-3D8C-4E9C-A778-26B7E06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65C-4E21-46EF-81BD-DEA0ED34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2CD-5D23-4047-A73E-60E7C3F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244-DCB0-422A-8246-21286BD0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9C3-4A4A-40E3-9DC8-AD07C9BF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CE8-F235-48EA-82B9-A599011F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2D15-0729-488C-95F8-8D63451D37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2EA-78E3-4F4D-9082-09E8C69EC8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 - 20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6" descr="Screen shot 2012-10-11 at 10.32.48 AM.png"/>
          <p:cNvPicPr/>
          <p:nvPr/>
        </p:nvPicPr>
        <p:blipFill>
          <a:blip r:embed="rId2"/>
          <a:srcRect l="-7748" t="0" r="-7748" b="0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 Kirk - (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a special election held in to fill the term of Roland Burris; from Champa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 by prof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the House from 2001-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urrentl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Joe Bi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Harry Reid (D-N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11D0-CDC6-4249-B02E-127F6B04BB2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6-09-21T15:48:59Z</dcterms:modified>
  <cp:revision>113</cp:revision>
  <dc:subject/>
  <dc:title>The Legislative Branch</dc:title>
</cp:coreProperties>
</file>